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693-CF69-48B2-AC5F-E8B8F3C3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7C8-CDC0-4DA0-B6A0-25A6E58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1D6-6829-46DC-BBDB-C5C80CA4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96A-6473-4D62-B02D-56A3CC63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6F6-1E83-471D-9E4A-FFA1120F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49E-99D1-4BD2-8AD2-F5E479A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6E9-77D2-4FE6-B52E-1AB478D3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1F0-43BF-4568-BCD4-1DCE6C18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F76-C1B3-4D64-86BC-AF48387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9AD-8B07-46A6-A3A1-EB239AD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AAC-EDAB-47BB-B178-71A814B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4FD-627C-4A1F-8875-0FE9850B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02C-AAA8-41FA-930A-2B98083C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76320"/>
            <a:ext cx="6629400" cy="6629400"/>
            <a:chOff x="1143000" y="76320"/>
            <a:chExt cx="6629400" cy="6629400"/>
          </a:xfrm>
        </p:grpSpPr>
        <p:sp>
          <p:nvSpPr>
            <p:cNvPr id="42" name=""/>
            <p:cNvSpPr/>
            <p:nvPr/>
          </p:nvSpPr>
          <p:spPr>
            <a:xfrm>
              <a:off x="1143000" y="76320"/>
              <a:ext cx="6629400" cy="6629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95680" y="76320"/>
              <a:ext cx="0" cy="662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43000" y="342900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905120" y="1371600"/>
              <a:ext cx="5181480" cy="41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81080" y="1219320"/>
              <a:ext cx="4876920" cy="441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37:54Z</dcterms:created>
  <dc:creator>Dina Winterton</dc:creator>
  <dc:description/>
  <dc:language>en-US</dc:language>
  <cp:lastModifiedBy>Dina Winterton</cp:lastModifiedBy>
  <dcterms:modified xsi:type="dcterms:W3CDTF">2010-03-24T18:43:11Z</dcterms:modified>
  <cp:revision>3</cp:revision>
  <dc:subject/>
  <dc:title>Slide 1</dc:title>
</cp:coreProperties>
</file>